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C06-3CDD-4604-965D-529B010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9A6-D9CC-4276-8901-A2228E4A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A4B-E6F1-4660-81F9-7D1D97E2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3F8-6704-4CC7-A6B5-07093223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076-7DF6-46E5-A571-F0BE815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DC5-3699-4AEE-9F71-7FE3F106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FCC-FDD8-43D5-9421-5557AE2F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110-317B-4EB0-9444-9DD779A0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B67-A8E8-4DDE-B0AF-BD9DCB1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9BE-64F3-48A0-8B05-5F031BB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5AF-B6CA-48C7-A164-2C6884A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ED2-59B4-431B-98C6-C891E5D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B290-C809-49A3-9927-8DA91416B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5D5-3FF7-4B35-8617-29F103C057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Mistral"/>
              </a:rPr>
              <a:t>The</a:t>
            </a: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 Angl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1015000">
            <a:off x="1458720" y="36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Come and meet the Angle family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m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428920" y="1643040"/>
            <a:ext cx="426240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857680" y="4714920"/>
            <a:ext cx="37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eflex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928960" y="50004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m 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2880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always in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857160" y="200016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 always measure between 90° and 180 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00008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bigger than Right and Acute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m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 rot="21387600">
            <a:off x="2158560" y="1315800"/>
            <a:ext cx="53341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o’s lef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 rot="19716000">
            <a:off x="2742840" y="1842840"/>
            <a:ext cx="33228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642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Hi! We’re the Angles, we’re one family, but all very different, so let us tell you a bit about ourselv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1571760" y="2214720"/>
            <a:ext cx="60004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Mr.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Obtus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freehomeworkmathhelp.com/Geometry/Geometry_Introduction/geometry_homework_help_obtuse_angle.GIF"/>
          <p:cNvPicPr/>
          <p:nvPr/>
        </p:nvPicPr>
        <p:blipFill>
          <a:blip r:embed="rId2"/>
          <a:stretch/>
        </p:blipFill>
        <p:spPr>
          <a:xfrm>
            <a:off x="4143240" y="5143680"/>
            <a:ext cx="244008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 rot="526800">
            <a:off x="3579480" y="1530360"/>
            <a:ext cx="5334120" cy="3416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57120" y="1163520"/>
            <a:ext cx="2928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sha"/>
                <a:ea typeface="Gisha"/>
              </a:rPr>
              <a:t>This is Obtuse. He’s the husband of the family. He’s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bigger than Right and Acute </a:t>
            </a:r>
            <a:r>
              <a:rPr b="0" lang="en-GB" sz="2800" spc="-1" strike="noStrike">
                <a:solidFill>
                  <a:srgbClr val="000000"/>
                </a:solidFill>
                <a:latin typeface="Gisha"/>
                <a:ea typeface="Gisha"/>
              </a:rPr>
              <a:t>. He’s always inside, and he alway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measures between 90° and 180</a:t>
            </a:r>
            <a:r>
              <a:rPr b="0" lang="en-GB" sz="2800" spc="-1" strike="noStrike">
                <a:solidFill>
                  <a:srgbClr val="000000"/>
                </a:solidFill>
                <a:latin typeface="Gisha"/>
                <a:ea typeface="Gisha"/>
              </a:rPr>
              <a:t>° (depending on how much dinner he’s eate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Mrs.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Right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static.newworldencyclopedia.org/thumb/6/6c/Right_angle.svg/600px-Right_angle.svg.png"/>
          <p:cNvPicPr/>
          <p:nvPr/>
        </p:nvPicPr>
        <p:blipFill>
          <a:blip r:embed="rId2"/>
          <a:stretch/>
        </p:blipFill>
        <p:spPr>
          <a:xfrm>
            <a:off x="85716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 rot="19716000">
            <a:off x="4528800" y="2128680"/>
            <a:ext cx="3322440" cy="3238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000080" y="1428840"/>
            <a:ext cx="2714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This is me. I’m Mrs. Right Angle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I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always measure 90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°, 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my favourite shape is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square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, and whatsmore, no matter what my husband tells you, I’m </a:t>
            </a:r>
            <a:r>
              <a:rPr b="0" i="1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always right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Baby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Acut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www.freehomeworkmathhelp.com/Geometry/Geometry_Introduction/geometry_homework_help_acute_angle.GIF"/>
          <p:cNvPicPr/>
          <p:nvPr/>
        </p:nvPicPr>
        <p:blipFill>
          <a:blip r:embed="rId2"/>
          <a:stretch/>
        </p:blipFill>
        <p:spPr>
          <a:xfrm>
            <a:off x="714240" y="4857840"/>
            <a:ext cx="2643480" cy="158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500040" y="1214280"/>
            <a:ext cx="3932280" cy="3579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214960" y="1571760"/>
            <a:ext cx="242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This is baby Acute angle. Isn’t he cute?! He loves a hug, and always has his arms out for  cuddles! He’s th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smallest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 of the family,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measuring less than 90</a:t>
            </a:r>
            <a:r>
              <a:rPr b="0" i="1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Reflex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000680" y="4143240"/>
            <a:ext cx="42624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upload.wikimedia.org/wikipedia/commons/thumb/5/59/Reflex_angle.svg/430px-Reflex_angle.svg.png"/>
          <p:cNvPicPr/>
          <p:nvPr/>
        </p:nvPicPr>
        <p:blipFill>
          <a:blip r:embed="rId3"/>
          <a:stretch/>
        </p:blipFill>
        <p:spPr>
          <a:xfrm rot="244200">
            <a:off x="909360" y="3833280"/>
            <a:ext cx="1865160" cy="2602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285920" y="1357200"/>
            <a:ext cx="53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This is our pet dog, Reflex. He’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always outside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. He’s only a pup at the moment so h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measures 180°, but he can grow up to 360 </a:t>
            </a:r>
            <a:r>
              <a:rPr b="0" lang="en-GB" sz="2400" spc="-1" strike="noStrike">
                <a:solidFill>
                  <a:srgbClr val="000000"/>
                </a:solidFill>
                <a:latin typeface="Gisha"/>
                <a:ea typeface="Gisha"/>
              </a:rPr>
              <a:t>°! So he’s definitely the biggest angle. You’ll never see him without that ball in his mouth either, horrid 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, now you’ve met us, let’s see how well you know u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000080" y="1928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m 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00080" y="3857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the smallest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00080" y="31431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 always measure less than 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000080" y="45720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very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u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m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2500200" y="1928880"/>
            <a:ext cx="39322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928960" y="785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m 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857160" y="328608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the biggest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857160" y="21430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’m always out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000080" y="45720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 can measure between 180° and 36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11:24Z</dcterms:created>
  <dc:creator>Georgina</dc:creator>
  <dc:description/>
  <dc:language>en-US</dc:language>
  <cp:lastModifiedBy>ASHLEE PAWLEE</cp:lastModifiedBy>
  <dcterms:modified xsi:type="dcterms:W3CDTF">2011-10-17T10:38:43Z</dcterms:modified>
  <cp:revision>15</cp:revision>
  <dc:subject/>
  <dc:title>The Angles</dc:title>
</cp:coreProperties>
</file>